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15D85-6CD8-4DBB-90E5-D7266AD67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8D1B5-537C-4CF3-BF02-94266D7AB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0C5E3-15DC-4F34-A293-E2B04BFDF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D8965-A6F0-42A9-978C-27F777ACF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17FFA-A8EA-4E86-886E-1DF679A9C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A688B-F9C5-472E-820E-E9551C5AD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5DCAE-F2B1-4D7C-B897-BD22E3992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51039-CB7D-49CD-87B0-0AC4056A1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1FAF2-51EE-4AE4-AD32-92F69CDB9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1345B-8035-4DD2-9E6F-D4E227525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1EA0-31FA-4EC6-91BD-A7552C575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00829-6D79-4856-A216-18C4794B5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96394-78D8-4F55-A424-A9C077CC3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1E56A-CED9-4D8C-99C4-A7DD4370F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88ED6-862D-4CD7-A4BA-CF7D991B1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39BE9-E62B-4124-9778-82ACADCA3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6E4E8-811F-4988-9ACF-A08189EAC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35543-E80F-4F07-94BA-553371F18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DB22F-D909-47F4-955B-114DDDDE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2DEA5-3D7C-42BD-B252-5E9509FB9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1AD75-A967-4669-9FB6-22D750170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4814-0741-4DBA-88F9-FB931AE5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DCDF-A45D-401D-8B7D-20E7B14BB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F970-AB94-4F79-9FBB-276001650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8BC8-3A54-4EC4-A194-5374AD307B7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CF89-0F2D-467A-B8CC-95F6DF2AE2B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Structures and Strategies</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Fuc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ctivity I have chosen is basketball.  The structure I used was the 2-1-2 zone defence.  This is a defensive structure. The 2-1-2 zone has two players called forwards who defend close to the baseline and basket.  There is a player in the middle of the key called the point guard who forms a rebound triangle with the forwards.  The front two players called guards play at the top of the key.  See the following diagra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89" name=""/>
          <p:cNvGrpSpPr/>
          <p:nvPr/>
        </p:nvGrpSpPr>
        <p:grpSpPr>
          <a:xfrm>
            <a:off x="2449080" y="2619360"/>
            <a:ext cx="4000320" cy="2857680"/>
            <a:chOff x="2449080" y="2619360"/>
            <a:chExt cx="4000320" cy="2857680"/>
          </a:xfrm>
        </p:grpSpPr>
        <p:sp>
          <p:nvSpPr>
            <p:cNvPr id="190" name=""/>
            <p:cNvSpPr/>
            <p:nvPr/>
          </p:nvSpPr>
          <p:spPr>
            <a:xfrm>
              <a:off x="2449080" y="2619360"/>
              <a:ext cx="4000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 name=""/>
            <p:cNvSpPr/>
            <p:nvPr/>
          </p:nvSpPr>
          <p:spPr>
            <a:xfrm>
              <a:off x="3820680" y="2847960"/>
              <a:ext cx="1143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4392360" y="2847960"/>
              <a:ext cx="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277520" y="3076560"/>
              <a:ext cx="22932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792520" y="2619360"/>
              <a:ext cx="22824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792520" y="3876840"/>
              <a:ext cx="37872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a:t>
              </a:r>
              <a:endParaRPr b="0" lang="en-US" sz="1200" spc="-1" strike="noStrike">
                <a:solidFill>
                  <a:srgbClr val="000000"/>
                </a:solidFill>
                <a:latin typeface="Arial"/>
              </a:endParaRPr>
            </a:p>
          </p:txBody>
        </p:sp>
        <p:sp>
          <p:nvSpPr>
            <p:cNvPr id="196" name=""/>
            <p:cNvSpPr/>
            <p:nvPr/>
          </p:nvSpPr>
          <p:spPr>
            <a:xfrm>
              <a:off x="3134880" y="4219560"/>
              <a:ext cx="343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249360" y="5134320"/>
              <a:ext cx="457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G</a:t>
              </a:r>
              <a:endParaRPr b="0" lang="en-US" sz="1200" spc="-1" strike="noStrike">
                <a:solidFill>
                  <a:srgbClr val="000000"/>
                </a:solidFill>
                <a:latin typeface="Arial"/>
              </a:endParaRPr>
            </a:p>
          </p:txBody>
        </p:sp>
        <p:sp>
          <p:nvSpPr>
            <p:cNvPr id="198" name=""/>
            <p:cNvSpPr/>
            <p:nvPr/>
          </p:nvSpPr>
          <p:spPr>
            <a:xfrm>
              <a:off x="3706560" y="5362920"/>
              <a:ext cx="1599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9" name=""/>
            <p:cNvSpPr/>
            <p:nvPr/>
          </p:nvSpPr>
          <p:spPr>
            <a:xfrm>
              <a:off x="5306760" y="513432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a:t>
              </a:r>
              <a:endParaRPr b="0" lang="en-US" sz="1200" spc="-1" strike="noStrike">
                <a:solidFill>
                  <a:srgbClr val="000000"/>
                </a:solidFill>
                <a:latin typeface="Arial"/>
              </a:endParaRPr>
            </a:p>
          </p:txBody>
        </p:sp>
        <p:sp>
          <p:nvSpPr>
            <p:cNvPr id="200" name=""/>
            <p:cNvSpPr/>
            <p:nvPr/>
          </p:nvSpPr>
          <p:spPr>
            <a:xfrm flipH="1">
              <a:off x="5991840" y="2619360"/>
              <a:ext cx="22860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763960" y="3876840"/>
              <a:ext cx="457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F</a:t>
              </a:r>
              <a:endParaRPr b="0" lang="en-US" sz="1200" spc="-1" strike="noStrike">
                <a:solidFill>
                  <a:srgbClr val="000000"/>
                </a:solidFill>
                <a:latin typeface="Arial"/>
              </a:endParaRPr>
            </a:p>
          </p:txBody>
        </p:sp>
        <p:sp>
          <p:nvSpPr>
            <p:cNvPr id="202" name=""/>
            <p:cNvSpPr/>
            <p:nvPr/>
          </p:nvSpPr>
          <p:spPr>
            <a:xfrm flipH="1">
              <a:off x="5535000" y="4219560"/>
              <a:ext cx="343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277520" y="4334040"/>
              <a:ext cx="457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a:t>
              </a:r>
              <a:endParaRPr b="0" lang="en-US" sz="1200" spc="-1" strike="noStrike">
                <a:solidFill>
                  <a:srgbClr val="000000"/>
                </a:solidFill>
                <a:latin typeface="Arial"/>
              </a:endParaRPr>
            </a:p>
          </p:txBody>
        </p:sp>
        <p:sp>
          <p:nvSpPr>
            <p:cNvPr id="204" name=""/>
            <p:cNvSpPr/>
            <p:nvPr/>
          </p:nvSpPr>
          <p:spPr>
            <a:xfrm flipH="1">
              <a:off x="4735440" y="3990960"/>
              <a:ext cx="1028160" cy="571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134880" y="3990960"/>
              <a:ext cx="1142640" cy="571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134880" y="3990960"/>
              <a:ext cx="262872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rwards and point guard form a rebound triangle around the basket.  All three players have to be aggressive and good at jumping and blocking out attacking players from collecting rebounds.  The guards put pressure on the opposing team when they are passing.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using the 2-1-2 zone defence you must firstly shout “zone” when you lose possession of the ball.  All players must then sprint back up the court and take their positions.  The closest player to the ball presses the ball handler by making it difficult for them to pass or shoot, meanwhile the other players ‘sag’ across to support but maintaining the structure at all times.  It is important that the defenders mark their area of the zone and not man-mark a playe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a)</a:t>
            </a: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 of the 2-1-2 zone defence are that it prevents penetration of the key by always having someone in the space preventing a clear drive the basket.  It also cuts down space inside the key and forces the opposition to shoot from outside the zone.  If the team has poor shooters you are cutting down their scoring opportunities.  Because of the rebound triangle, you also have a good chance of regaining essential possession, which can be used to initiate a fast break. Finally a 2-1-2 zone defence is less tiring for individuals to play and often leads to teams also committing fewer fouls and can protect those players who are in foul tr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b)</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did you gather information on the effectiveness of your structure, strategy or composition?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b)</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e the method(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w the observation schedu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is the method appropriate?  What does the it look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id it help you find ou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is it valid and reli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b)</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thod I used to analyse my performance was to video record a 5 v 5 game for 15 minutes and then complete an observation schedule to see how effectively my team carried out our 2-1-2 Zone Defence.  The team schedule was as follow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b)</a:t>
            </a: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221" name=""/>
          <p:cNvGraphicFramePr/>
          <p:nvPr/>
        </p:nvGraphicFramePr>
        <p:xfrm>
          <a:off x="457200" y="1752480"/>
          <a:ext cx="8229600" cy="4343400"/>
        </p:xfrm>
        <a:graphic>
          <a:graphicData uri="http://schemas.openxmlformats.org/drawingml/2006/table">
            <a:tbl>
              <a:tblPr/>
              <a:tblGrid>
                <a:gridCol w="2952720"/>
                <a:gridCol w="933480"/>
                <a:gridCol w="922320"/>
                <a:gridCol w="1139760"/>
                <a:gridCol w="1141560"/>
                <a:gridCol w="1139760"/>
              </a:tblGrid>
              <a:tr h="819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 on tim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75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es as a uni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 its shap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s rebound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ures attacking te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b)</a:t>
            </a:r>
            <a:endParaRPr b="1" lang="en-US" sz="3900" spc="-1" strike="noStrike">
              <a:solidFill>
                <a:srgbClr val="330066"/>
              </a:solidFill>
              <a:latin typeface="Arial"/>
            </a:endParaRPr>
          </a:p>
        </p:txBody>
      </p:sp>
      <p:sp>
        <p:nvSpPr>
          <p:cNvPr id="2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33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method was appropriate because it allowed me to collect information about how effectively my team carried out our 2-1-2 Zone Defence. Using the schedule allowed me to break the structure down into different stages that are necessary for the 2-1-2 Zone Defence to work.  From the results, statistics can be produced to show factual information on our strengths and weaknesses and focusses our future practice.  It is also a permanent record of our performance.  This meant that the method was vali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a)</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an activity of your choice describe, </a:t>
            </a:r>
            <a:r>
              <a:rPr b="1" lang="en-US" sz="3000" spc="-1" strike="noStrike">
                <a:solidFill>
                  <a:srgbClr val="000000"/>
                </a:solidFill>
                <a:latin typeface="Arial"/>
              </a:rPr>
              <a:t>in detail</a:t>
            </a:r>
            <a:r>
              <a:rPr b="0" lang="en-US" sz="3000" spc="-1" strike="noStrike">
                <a:solidFill>
                  <a:srgbClr val="000000"/>
                </a:solidFill>
                <a:latin typeface="Arial"/>
              </a:rPr>
              <a:t>, a structure, strategy or composition you have used.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b)</a:t>
            </a: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ethod was also reliable as it can be repeated using the same conditions so that accurate comparisons can be mad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c) </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structure, strategy or composition in Part (a) discuss the parts of </a:t>
            </a:r>
            <a:r>
              <a:rPr b="1" lang="en-US" sz="3000" spc="-1" strike="noStrike">
                <a:solidFill>
                  <a:srgbClr val="000000"/>
                </a:solidFill>
                <a:latin typeface="Arial"/>
              </a:rPr>
              <a:t>your performance</a:t>
            </a:r>
            <a:r>
              <a:rPr b="0" lang="en-US" sz="3000" spc="-1" strike="noStrike">
                <a:solidFill>
                  <a:srgbClr val="000000"/>
                </a:solidFill>
                <a:latin typeface="Arial"/>
              </a:rPr>
              <a:t> which you felt were in need of improvement.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c) </a:t>
            </a: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es the observation schedule tell you?</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statist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ere the weaknesse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are these importan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c) </a:t>
            </a: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bservation schedule showed us that our main two weaknesses were not getting back quickly enough and not keeping our shape.  From five attempts we only got back into our positions twice.  This is only a 40% success rate.  It is very important to get back quickly and be organised as if we are not it is giving our opponents the opportunity to fast break and easy chances to scor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c)</a:t>
            </a: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lso only kept our shape once in five attempts.  This is only a 20% success rate.  It is very important for us to keep our shape as if we do not large spaces will be left open for our opponents to attack into and score easil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d)</a:t>
            </a:r>
            <a:endParaRPr b="1" lang="en-US" sz="3900" spc="-1" strike="noStrike">
              <a:solidFill>
                <a:srgbClr val="330066"/>
              </a:solidFill>
              <a:latin typeface="Arial"/>
            </a:endParaRPr>
          </a:p>
        </p:txBody>
      </p:sp>
      <p:sp>
        <p:nvSpPr>
          <p:cNvPr id="23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eps you took to improve the </a:t>
            </a:r>
            <a:r>
              <a:rPr b="1" lang="en-US" sz="3000" spc="-1" strike="noStrike">
                <a:solidFill>
                  <a:srgbClr val="000000"/>
                </a:solidFill>
                <a:latin typeface="Arial"/>
              </a:rPr>
              <a:t>weaknesses</a:t>
            </a:r>
            <a:r>
              <a:rPr b="0" lang="en-US" sz="3000" spc="-1" strike="noStrike">
                <a:solidFill>
                  <a:srgbClr val="000000"/>
                </a:solidFill>
                <a:latin typeface="Arial"/>
              </a:rPr>
              <a:t> you identified in Part (c).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d)</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two practices that we did in cla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dow practice to get back in posi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id this hel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cones so that we maintained our position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y did this hel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d)</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improve our areas of weakness we performed a number of practices.  Firstly, to improve our weakness of not getting back quickly enough we performed a shadow practice.  We were all standing on the half-way line and when our teacher shouted “zone” we sprinted back to our positions.  We performed this against the three other teams in the class and so it was a race to see who was first.  This made it fun and also really challenged us to do it as quickly as possibl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d)</a:t>
            </a:r>
            <a:endParaRPr b="1" lang="en-US" sz="3900" spc="-1" strike="noStrike">
              <a:solidFill>
                <a:srgbClr val="330066"/>
              </a:solidFill>
              <a:latin typeface="Arial"/>
            </a:endParaRPr>
          </a:p>
        </p:txBody>
      </p:sp>
      <p:sp>
        <p:nvSpPr>
          <p:cNvPr id="2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improve our weakness of not maintaining our shape we placed cones in our defensive positions.  We were not allowed to move more than two steps from our cone.  This maintained the structure of the zone and so there were no large spaces for the attacking team to play into.  Once we had played this for a number of times we were able to remove the cones and we still kept our position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rt (e)</a:t>
            </a:r>
            <a:endParaRPr b="1" lang="en-US" sz="3900" spc="-1" strike="noStrike">
              <a:solidFill>
                <a:srgbClr val="330066"/>
              </a:solidFill>
              <a:latin typeface="Arial"/>
            </a:endParaRPr>
          </a:p>
        </p:txBody>
      </p:sp>
      <p:sp>
        <p:nvSpPr>
          <p:cNvPr id="2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Having developed your performance within your chosen structure strategy or composition, explain how you went on to evaluate your improvement.  (3)</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a)</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he structure:  2-1-2 Zone Defe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formation – where the players stand in the ke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each player/position’s role and responsibi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the zon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rengths and weaknesses of the z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w to answer Part (e)</a:t>
            </a:r>
            <a:endParaRPr b="1" lang="en-US" sz="3900" spc="-1" strike="noStrike">
              <a:solidFill>
                <a:srgbClr val="330066"/>
              </a:solidFill>
              <a:latin typeface="Arial"/>
            </a:endParaRPr>
          </a:p>
        </p:txBody>
      </p:sp>
      <p:sp>
        <p:nvSpPr>
          <p:cNvPr id="24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tested using same methods (video 15 min game, observation schedu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re able to compare and contrast results (valid and reliable) to see differenc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uss results: Got back on time 5/5 (10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Kept shape 4/5 (80%)</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mproved from wh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Part (e)</a:t>
            </a:r>
            <a:endParaRPr b="1" lang="en-US" sz="3900" spc="-1" strike="noStrike">
              <a:solidFill>
                <a:srgbClr val="330066"/>
              </a:solidFill>
              <a:latin typeface="Arial"/>
            </a:endParaRPr>
          </a:p>
        </p:txBody>
      </p:sp>
      <p:sp>
        <p:nvSpPr>
          <p:cNvPr id="2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Having developed the performance of our 2-1-2 zone defence we evaluated our improvement by re-testing the effectiveness of our zone defence by video recording a 5v5 game and repeating the ‘zone defence’ observation schedule.  As the methods were valid and reliable we were able to compare and contrast the results of the two sets of observation schedules to see if our performance had improved or deteriorated</a:t>
            </a:r>
            <a:r>
              <a:rPr b="0" lang="en-US" sz="3000" spc="-1" strike="noStrike">
                <a:solidFill>
                  <a:srgbClr val="000000"/>
                </a:solidFill>
                <a:latin typeface="Comic Sans MS"/>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Answer Part (e)</a:t>
            </a:r>
            <a:endParaRPr b="1" lang="en-US" sz="3900" spc="-1" strike="noStrike">
              <a:solidFill>
                <a:srgbClr val="330066"/>
              </a:solidFill>
              <a:latin typeface="Arial"/>
            </a:endParaRPr>
          </a:p>
        </p:txBody>
      </p:sp>
      <p:sp>
        <p:nvSpPr>
          <p:cNvPr id="24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The results showed us that we improved getting back on time.  We managed to do this five times in five attempts.  This is a 100% success rate, which was improved from 40%.  We also improved keeping our shape to 4 times in 5 attempts.  This had improved from 20% to 80% success rate.</a:t>
            </a:r>
            <a:r>
              <a:rPr b="0" lang="en-US" sz="3000" spc="-1" strike="noStrike">
                <a:solidFill>
                  <a:srgbClr val="000000"/>
                </a:solidFill>
                <a:latin typeface="Comic Sans MS"/>
                <a:ea typeface="Times New Roman"/>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Fast Break</a:t>
            </a:r>
            <a:endParaRPr b="1" lang="en-US" sz="4800" spc="-1" strike="noStrike">
              <a:solidFill>
                <a:srgbClr val="330066"/>
              </a:solidFill>
              <a:latin typeface="Arial"/>
            </a:endParaRPr>
          </a:p>
        </p:txBody>
      </p:sp>
      <p:sp>
        <p:nvSpPr>
          <p:cNvPr id="251"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ases of the Fast Break</a:t>
            </a:r>
            <a:endParaRPr b="1" lang="en-US" sz="3900" spc="-1" strike="noStrike">
              <a:solidFill>
                <a:srgbClr val="330066"/>
              </a:solidFill>
              <a:latin typeface="Arial"/>
            </a:endParaRPr>
          </a:p>
        </p:txBody>
      </p:sp>
      <p:sp>
        <p:nvSpPr>
          <p:cNvPr id="2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The fast break can be broken down into three phases:  Beginning, Execution and Finis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eginning</a:t>
            </a:r>
            <a:endParaRPr b="1" lang="en-US" sz="3900" spc="-1" strike="noStrike">
              <a:solidFill>
                <a:srgbClr val="330066"/>
              </a:solidFill>
              <a:latin typeface="Arial"/>
            </a:endParaRPr>
          </a:p>
        </p:txBody>
      </p:sp>
      <p:sp>
        <p:nvSpPr>
          <p:cNvPr id="2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ea typeface="Times New Roman"/>
              </a:rPr>
              <a:t>Good defence</a:t>
            </a:r>
            <a:r>
              <a:rPr b="0" lang="en-US" sz="3000" spc="-1" strike="noStrike">
                <a:solidFill>
                  <a:srgbClr val="000000"/>
                </a:solidFill>
                <a:latin typeface="Comic Sans MS"/>
                <a:ea typeface="Times New Roman"/>
              </a:rPr>
              <a:t> is the best means for starting the fast break.  A team must first gain possession through aggressive defence:  </a:t>
            </a:r>
            <a:r>
              <a:rPr b="1" lang="en-US" sz="3000" spc="-1" strike="noStrike">
                <a:solidFill>
                  <a:srgbClr val="000000"/>
                </a:solidFill>
                <a:latin typeface="Comic Sans MS"/>
                <a:ea typeface="Times New Roman"/>
              </a:rPr>
              <a:t>rebounding, blocking shots, steals, interceptions, violations by opponent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ecution</a:t>
            </a:r>
            <a:endParaRPr b="1" lang="en-US" sz="3900" spc="-1" strike="noStrike">
              <a:solidFill>
                <a:srgbClr val="330066"/>
              </a:solidFill>
              <a:latin typeface="Arial"/>
            </a:endParaRPr>
          </a:p>
        </p:txBody>
      </p:sp>
      <p:sp>
        <p:nvSpPr>
          <p:cNvPr id="2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Success is determined by the speed of the break away.  The fastest players should therefore be positioned closest to the opponent’s basket when defending (the top of the key).  These players should use their judgement to anticipate when possession when possession will be gained and move early to </a:t>
            </a:r>
            <a:r>
              <a:rPr b="1" lang="en-US" sz="3000" spc="-1" strike="noStrike">
                <a:solidFill>
                  <a:srgbClr val="000000"/>
                </a:solidFill>
                <a:latin typeface="Comic Sans MS"/>
                <a:ea typeface="Times New Roman"/>
              </a:rPr>
              <a:t>‘fill the lanes’.</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ecution continued</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A key word such as “ball” can be used to signal a fast break when possession has been gained.  A quick </a:t>
            </a:r>
            <a:r>
              <a:rPr b="1" lang="en-US" sz="3000" spc="-1" strike="noStrike">
                <a:solidFill>
                  <a:srgbClr val="000000"/>
                </a:solidFill>
                <a:latin typeface="Comic Sans MS"/>
                <a:ea typeface="Times New Roman"/>
              </a:rPr>
              <a:t>‘outlet pass’</a:t>
            </a:r>
            <a:r>
              <a:rPr b="0" lang="en-US" sz="3000" spc="-1" strike="noStrike">
                <a:solidFill>
                  <a:srgbClr val="000000"/>
                </a:solidFill>
                <a:latin typeface="Comic Sans MS"/>
                <a:ea typeface="Times New Roman"/>
              </a:rPr>
              <a:t> should be made to a player (normally the point guard) who has taken up a position in either one of the wide lanes.  The outlet pass should avoid the traffic in the key (don’t pass across the key).  Outlet pass to the side on which the ball has been rebounded.</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ish</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The finish will depend on the </a:t>
            </a:r>
            <a:r>
              <a:rPr b="1" lang="en-US" sz="3000" spc="-1" strike="noStrike">
                <a:solidFill>
                  <a:srgbClr val="000000"/>
                </a:solidFill>
                <a:latin typeface="Comic Sans MS"/>
                <a:ea typeface="Times New Roman"/>
              </a:rPr>
              <a:t>overload</a:t>
            </a:r>
            <a:r>
              <a:rPr b="0" lang="en-US" sz="3000" spc="-1" strike="noStrike">
                <a:solidFill>
                  <a:srgbClr val="000000"/>
                </a:solidFill>
                <a:latin typeface="Comic Sans MS"/>
                <a:ea typeface="Times New Roman"/>
              </a:rPr>
              <a:t> situation created by the fast break.  </a:t>
            </a:r>
            <a:r>
              <a:rPr b="1" lang="en-US" sz="3000" spc="-1" strike="noStrike">
                <a:solidFill>
                  <a:srgbClr val="000000"/>
                </a:solidFill>
                <a:latin typeface="Comic Sans MS"/>
                <a:ea typeface="Times New Roman"/>
              </a:rPr>
              <a:t>2v1 and 3v2</a:t>
            </a:r>
            <a:r>
              <a:rPr b="0" lang="en-US" sz="3000" spc="-1" strike="noStrike">
                <a:solidFill>
                  <a:srgbClr val="000000"/>
                </a:solidFill>
                <a:latin typeface="Comic Sans MS"/>
                <a:ea typeface="Times New Roman"/>
              </a:rPr>
              <a:t> situations are most common and often result in a </a:t>
            </a:r>
            <a:r>
              <a:rPr b="1" lang="en-US" sz="3000" spc="-1" strike="noStrike">
                <a:solidFill>
                  <a:srgbClr val="000000"/>
                </a:solidFill>
                <a:latin typeface="Comic Sans MS"/>
                <a:ea typeface="Times New Roman"/>
              </a:rPr>
              <a:t>high percentage shot</a:t>
            </a:r>
            <a:r>
              <a:rPr b="0" lang="en-US" sz="3000" spc="-1" strike="noStrike">
                <a:solidFill>
                  <a:srgbClr val="000000"/>
                </a:solidFill>
                <a:latin typeface="Comic Sans MS"/>
                <a:ea typeface="Times New Roman"/>
              </a:rPr>
              <a:t> e.g. lay up.  Support players should stay wide and available and look to cut to the basket from around the 3-point line.  Care should be taken not to congest the area, as this will make the defenders job easi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oles and Responsibilities </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s: Collecting rebound from opponents shot and playing outlet pa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int Guard: Responsible for collecting the ball and driving down centre of court to basket before shooting or passing guard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ards: Fill the lanes and be ready to receive pa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1-2 Zone Defence Formation</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57" name=""/>
          <p:cNvGrpSpPr/>
          <p:nvPr/>
        </p:nvGrpSpPr>
        <p:grpSpPr>
          <a:xfrm>
            <a:off x="2449080" y="2619360"/>
            <a:ext cx="4000320" cy="2857680"/>
            <a:chOff x="2449080" y="2619360"/>
            <a:chExt cx="4000320" cy="2857680"/>
          </a:xfrm>
        </p:grpSpPr>
        <p:sp>
          <p:nvSpPr>
            <p:cNvPr id="158" name=""/>
            <p:cNvSpPr/>
            <p:nvPr/>
          </p:nvSpPr>
          <p:spPr>
            <a:xfrm>
              <a:off x="2449080" y="2619360"/>
              <a:ext cx="40003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 name=""/>
            <p:cNvSpPr/>
            <p:nvPr/>
          </p:nvSpPr>
          <p:spPr>
            <a:xfrm>
              <a:off x="3820680" y="2847960"/>
              <a:ext cx="1143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0" name=""/>
            <p:cNvSpPr/>
            <p:nvPr/>
          </p:nvSpPr>
          <p:spPr>
            <a:xfrm>
              <a:off x="4392360" y="2847960"/>
              <a:ext cx="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7520" y="3076560"/>
              <a:ext cx="229320" cy="228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92520" y="2619360"/>
              <a:ext cx="22824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92520" y="3876840"/>
              <a:ext cx="37872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a:t>
              </a:r>
              <a:endParaRPr b="0" lang="en-US" sz="1200" spc="-1" strike="noStrike">
                <a:solidFill>
                  <a:srgbClr val="000000"/>
                </a:solidFill>
                <a:latin typeface="Arial"/>
              </a:endParaRPr>
            </a:p>
          </p:txBody>
        </p:sp>
        <p:sp>
          <p:nvSpPr>
            <p:cNvPr id="164" name=""/>
            <p:cNvSpPr/>
            <p:nvPr/>
          </p:nvSpPr>
          <p:spPr>
            <a:xfrm>
              <a:off x="3134880" y="4219560"/>
              <a:ext cx="343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49360" y="5134320"/>
              <a:ext cx="457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G</a:t>
              </a:r>
              <a:endParaRPr b="0" lang="en-US" sz="1200" spc="-1" strike="noStrike">
                <a:solidFill>
                  <a:srgbClr val="000000"/>
                </a:solidFill>
                <a:latin typeface="Arial"/>
              </a:endParaRPr>
            </a:p>
          </p:txBody>
        </p:sp>
        <p:sp>
          <p:nvSpPr>
            <p:cNvPr id="166" name=""/>
            <p:cNvSpPr/>
            <p:nvPr/>
          </p:nvSpPr>
          <p:spPr>
            <a:xfrm>
              <a:off x="3706560" y="5362920"/>
              <a:ext cx="1599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7" name=""/>
            <p:cNvSpPr/>
            <p:nvPr/>
          </p:nvSpPr>
          <p:spPr>
            <a:xfrm>
              <a:off x="5306760" y="513432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G</a:t>
              </a:r>
              <a:endParaRPr b="0" lang="en-US" sz="1200" spc="-1" strike="noStrike">
                <a:solidFill>
                  <a:srgbClr val="000000"/>
                </a:solidFill>
                <a:latin typeface="Arial"/>
              </a:endParaRPr>
            </a:p>
          </p:txBody>
        </p:sp>
        <p:sp>
          <p:nvSpPr>
            <p:cNvPr id="168" name=""/>
            <p:cNvSpPr/>
            <p:nvPr/>
          </p:nvSpPr>
          <p:spPr>
            <a:xfrm flipH="1">
              <a:off x="5991840" y="2619360"/>
              <a:ext cx="228600" cy="12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763960" y="3876840"/>
              <a:ext cx="457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F</a:t>
              </a:r>
              <a:endParaRPr b="0" lang="en-US" sz="1200" spc="-1" strike="noStrike">
                <a:solidFill>
                  <a:srgbClr val="000000"/>
                </a:solidFill>
                <a:latin typeface="Arial"/>
              </a:endParaRPr>
            </a:p>
          </p:txBody>
        </p:sp>
        <p:sp>
          <p:nvSpPr>
            <p:cNvPr id="170" name=""/>
            <p:cNvSpPr/>
            <p:nvPr/>
          </p:nvSpPr>
          <p:spPr>
            <a:xfrm flipH="1">
              <a:off x="5535000" y="4219560"/>
              <a:ext cx="34308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277520" y="4334040"/>
              <a:ext cx="45756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G</a:t>
              </a:r>
              <a:endParaRPr b="0" lang="en-US" sz="1200" spc="-1" strike="noStrike">
                <a:solidFill>
                  <a:srgbClr val="000000"/>
                </a:solidFill>
                <a:latin typeface="Arial"/>
              </a:endParaRPr>
            </a:p>
          </p:txBody>
        </p:sp>
        <p:sp>
          <p:nvSpPr>
            <p:cNvPr id="172" name=""/>
            <p:cNvSpPr/>
            <p:nvPr/>
          </p:nvSpPr>
          <p:spPr>
            <a:xfrm flipH="1">
              <a:off x="4735440" y="3990960"/>
              <a:ext cx="1028160" cy="571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134880" y="3990960"/>
              <a:ext cx="1142640" cy="5713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134880" y="3990960"/>
              <a:ext cx="262872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rengths</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Creating an overload e.g.  2v1 and 3v2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Not giving opponents a chance to set their defence (zon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Creating a mismatch e.g. tall v small, fast v slo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Times New Roman"/>
              </a:rPr>
              <a:t>Discourage opposition from rebounding.</a:t>
            </a:r>
            <a:r>
              <a:rPr b="0" lang="en-US" sz="3000" spc="-1" strike="noStrike">
                <a:solidFill>
                  <a:srgbClr val="000000"/>
                </a:solidFill>
                <a:latin typeface="Comic Sans MS"/>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oles and Responsibilities</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uards</a:t>
            </a:r>
            <a:r>
              <a:rPr b="0" lang="en-US" sz="3000" spc="-1" strike="noStrike">
                <a:solidFill>
                  <a:srgbClr val="000000"/>
                </a:solidFill>
                <a:latin typeface="Arial"/>
              </a:rPr>
              <a:t> put pressure on the forwards of the opposing team when they are passing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oint Guard</a:t>
            </a:r>
            <a:r>
              <a:rPr b="0" lang="en-US" sz="3000" spc="-1" strike="noStrike">
                <a:solidFill>
                  <a:srgbClr val="000000"/>
                </a:solidFill>
                <a:latin typeface="Arial"/>
              </a:rPr>
              <a:t> and </a:t>
            </a:r>
            <a:r>
              <a:rPr b="1" lang="en-US" sz="3000" spc="-1" strike="noStrike">
                <a:solidFill>
                  <a:srgbClr val="000000"/>
                </a:solidFill>
                <a:latin typeface="Arial"/>
              </a:rPr>
              <a:t>Forwards</a:t>
            </a:r>
            <a:r>
              <a:rPr b="0" lang="en-US" sz="3000" spc="-1" strike="noStrike">
                <a:solidFill>
                  <a:srgbClr val="000000"/>
                </a:solidFill>
                <a:latin typeface="Arial"/>
              </a:rPr>
              <a:t> form a rebound triangle around basket. All three players have to be aggressive and good at jumping and blocking out attacking players from collecting the rebounds from shots to the baske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ages of 2-1-2 Zone Defence</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r team loses possession shout zone and sprint back up court and take positions</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fenders nearest the attacker in possession of the ball pressures the ball when attacker is in shooting range. </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ak side players sag across to maintain the structure of the zone and covering vulnerable areas.</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ck out.  When a shot is attempted, the defenders must block out and rebou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1-2 Zone Strength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s penetration of the key by always having someone in the space preventing a clear drive to the baske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re effective against cutting and screening as players mark areas not m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ts down the space inside the key and forces long range shoot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1-2 Zone Strength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ss tiring (than man-to-ma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yers commit fewer foul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2-1-2  Zone Weaknesses</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ulnerable to good outside shoot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 break can beat zone down court leading to disorganisation and confus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ponents have relatively free build up as pressure not applies until ball close to zon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defensive skills are not developed when a team rely on the zon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04:43:01Z</dcterms:created>
  <dc:creator>Josef Fuchs</dc:creator>
  <dc:description/>
  <dc:language>en-US</dc:language>
  <cp:lastModifiedBy>DooganS</cp:lastModifiedBy>
  <dcterms:modified xsi:type="dcterms:W3CDTF">2010-03-08T09:59:43Z</dcterms:modified>
  <cp:revision>11</cp:revision>
  <dc:subject/>
  <dc:title>Period Starter</dc:title>
</cp:coreProperties>
</file>